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84D-11DB-4BFE-BF0C-4C387DED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041-F1A7-4EDC-8D74-B815785E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FF0-0392-482A-A665-AA7FF8EA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74D-ED0C-4C50-89C6-90E5C924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1CE0-941F-46F9-9004-EF68BB66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0500-D1DD-40DF-8BDD-2AF59401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8821-E9E7-47A7-9535-97866905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931C-1D33-495C-996B-13D0C6F0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5617-49F2-48C3-B25E-9C3197BE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1606-9718-4437-AD72-81254DA3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F79C-4F97-4315-8EAE-1215D258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FE3-673D-4BDA-B482-DA6ADE25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179B-6B01-4ECB-AB95-0A68C509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D489-543A-4D25-B64B-58F39A77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BEC4-BA1B-4550-B789-FE0F2093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A136-DD54-48D9-A8C5-AB37D6E2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FA41-9699-4227-9033-95D20D31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DB33-39BC-4F86-B6C5-871684CA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160-830D-4804-879A-059918A1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FE8-AB7E-404C-A384-C4A130EE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018-219E-4F8F-969C-04B2BE68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B41B-5760-4DDF-95E0-07C6527B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8AFC-1C1C-4373-B35B-754B62E1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7A4-E5C2-411F-A1C4-C834B3DC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0D95-4839-4C11-BA9C-9A4F33B50FE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C411-F108-4FC5-B3FC-617F47C06E3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emonlemonade.files.wordpress.com/2010/06/goals2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90720" y="60948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2f1311"/>
                </a:solidFill>
                <a:uFillTx/>
                <a:latin typeface="Alba Super"/>
              </a:rPr>
              <a:t>Setting Objective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To provide direction for learn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438280"/>
            <a:ext cx="71625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at will students lear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arrow student focus;      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ot too specific, but flexib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ersonalize  and communicate learning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oals (I can statement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5003640"/>
            <a:ext cx="2438640" cy="162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4:25:11Z</dcterms:created>
  <dc:creator>workstation</dc:creator>
  <dc:description/>
  <dc:language>en-US</dc:language>
  <cp:lastModifiedBy>workstation</cp:lastModifiedBy>
  <dcterms:modified xsi:type="dcterms:W3CDTF">2010-08-03T14:38:58Z</dcterms:modified>
  <cp:revision>2</cp:revision>
  <dc:subject/>
  <dc:title>Slide 1</dc:title>
</cp:coreProperties>
</file>